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4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5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3C48-2371-4A41-A2D3-BF164DA5A7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idereus_Nuncius" TargetMode="External"/><Relationship Id="rId2" Type="http://schemas.openxmlformats.org/officeDocument/2006/relationships/hyperlink" Target="http://en.wikipedia.org/wiki/Dialogue_Concerning_the_Two_Chief_World_Systems" TargetMode="External"/><Relationship Id="rId3" Type="http://schemas.openxmlformats.org/officeDocument/2006/relationships/hyperlink" Target="http://en.wikipedia.org/wiki/Two_New_Sciences" TargetMode="External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26A8-7299-409E-A4AF-67D94233B27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06C-A5CB-4989-AED3-0A4315D47F4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피사 대학의 수학 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88-1592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도바 대학의 수학 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92-1610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초기 역학 연구 노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맑은 고딕"/>
              </a:rPr>
              <a:t>De Motu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590s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Sidereus Nunciu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10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메디치가의 철학자 겸 수학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10-163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Dialogue Concerning the Two Chief World System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32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교재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33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역학 연구 매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Two New Sciences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(1638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066-3BA7-4FFB-8848-7291E5EB87D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676B-E935-4B5F-8843-85CD3CFD92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BA9E-43DF-4616-8405-D2DE0A4BBF5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두 돌의 평균속도가 나온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더 빨리 떨어진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79C-0D89-4BFB-B402-13D6FDEC822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르키메데스의 부력 원리에서 아이디어 얻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매질의 저항을 밀도와 같이 취급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무거움과 가벼움이 절대적인 성질이 아니고 상대적인 성질이라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리스토텔레스가 어떤 물체가 가볍기 때문에 올라간다고 했을 때는 그 가벼움은 그 물체의 절대적 성질이며 그 주위의 것과 비교해서의 가벼움이 아니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이 물체는 그 주위에 더 가벼운 것으로 둘러싸였을 경우에도 올라갔을 것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EB78-955F-4326-9F43-31351552E60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사고실험을 통해 아리스토텔레스 역학의 논리적 모순 비판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아르키메데스의 부력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(</a:t>
            </a: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물체와 매질의 밀도 차이에 의존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) </a:t>
            </a:r>
            <a:r>
              <a:rPr b="1" lang="ko-KR" sz="1200" spc="-1" strike="noStrike">
                <a:solidFill>
                  <a:srgbClr val="c0504d"/>
                </a:solidFill>
                <a:latin typeface="맑은 고딕"/>
              </a:rPr>
              <a:t>아이디어 확장</a:t>
            </a: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8939-2BD0-4BFC-BDFE-5E6C405E61F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서로 다른 종류의 물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있다면 그것들의 낙하속도는 서로 다를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러나 이 둘의 속도와 차이는 매체의 밀도가 작으면 줄어든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예를 들어 물속에서 낙하할 때의 두 물체의 속도의 차이에 비해 물보다 밀도가 작은 공기 중에서 낙하할 때의 두 물체의 속도의 차이는 더 작은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렇다면 매체의 밀도가 점점 줄어들면 두 물체의 속도의 차이도 점점 줄어들 것이고 매체의 밀도가 영이 되는 진공 중의 낙하에 있어서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속도의 차이도 영이 되어 두 물체의 속도가 같아질 것이라는 것이 그의 결론이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든 물체는 한 가지의 물질입자들로 구성되어 있고 그 성질과 밀도가 서로 다른 것은 이 입자들이 얼마나 조밀하게 구성되어 있느냐에 따라서 다른 것일 따름이므로 같은 속도를 가져야 한다고 주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445-1474-46C8-8015-82CDFC9D66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 앞서는 실험적으로 검증 노력 안 했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31A-52EF-4A10-BB4A-940A97BAAD2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과학의 아버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갈릴레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안락의자의 철학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실험 수치 제시하는 경우 거의 없음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간혹 제시되는 수치들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예측과 불일치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현실적으로 수행하기 힘든 실험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갈릴레오는 실험을 수행하지 않았다</a:t>
            </a:r>
            <a:r>
              <a:rPr b="1" lang="en-US" sz="1700" spc="-1" strike="noStrike">
                <a:solidFill>
                  <a:srgbClr val="c0504d"/>
                </a:solidFill>
                <a:latin typeface="맑은 고딕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험가로서의 갈릴레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드레이크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갈릴레오 실험노트 발굴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세틀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자유낙하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경사면 실험 재현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1" lang="ko-KR" sz="1700" spc="-1" strike="noStrike">
                <a:solidFill>
                  <a:srgbClr val="c0504d"/>
                </a:solidFill>
                <a:latin typeface="맑은 고딕"/>
              </a:rPr>
              <a:t>실제 실험을 했더라</a:t>
            </a:r>
            <a:r>
              <a:rPr b="1" lang="en-US" sz="1700" spc="-1" strike="noStrike">
                <a:solidFill>
                  <a:srgbClr val="c0504d"/>
                </a:solidFill>
                <a:latin typeface="맑은 고딕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★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	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그렇지만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그 외 대부분의 실험들은 사고실험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!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실제 한 실험도 이미 이론적으로 도달한 결론을 보여주는 ‘시연’에 가까움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. </a:t>
            </a:r>
            <a:r>
              <a:rPr b="0" lang="ko-KR" sz="1500" spc="-1" strike="noStrike">
                <a:solidFill>
                  <a:srgbClr val="c0504d"/>
                </a:solidFill>
                <a:latin typeface="맑은 고딕"/>
              </a:rPr>
              <a:t>예측 안 맞는 경우에도 결과 무시</a:t>
            </a:r>
            <a:r>
              <a:rPr b="0" lang="en-US" sz="1500" spc="-1" strike="noStrike">
                <a:solidFill>
                  <a:srgbClr val="c0504d"/>
                </a:solidFill>
                <a:latin typeface="맑은 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경사면 실험의 효과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자유낙하를 느리게 연출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슬로우 비디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</a:rPr>
              <a:t>더 자세한 관찰 가능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A8A-86BF-49FB-AA79-B11C656418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5D7-CB84-4BDE-AA25-ACC6B92D8CC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198-365C-483E-8B13-F77456EF7BD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1C0-FF46-4FCC-BF12-38569263AC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5A97-65BF-4BE8-A67E-BBC2DCD1CE4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E0E-5C14-463A-B76A-08D182079A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9B3-418A-4423-ACD9-0C60424995B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488E-C6ED-470C-A33A-3DB5A1B76D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D68-A673-453D-85D3-A7741A78C65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28C-CF9E-44C4-AE32-A217E4F893D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233-358A-4F46-9DE9-FA90FDA18DA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7D27-CAFD-4244-8CBD-4BF4C1FCB7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528-8D90-4EC1-9A5D-B8DFE53586A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D31-F21A-4CC9-8D98-4C81E3C6644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31E7-B11F-4772-9E28-EFA3DB2ADA9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AE58-87F0-4038-8158-11ECEFFFDE7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B4BD-9796-427E-ABE6-28ADB8DCA74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88D-F1F0-4010-B1B6-13E6F96E7BA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489A-93EF-4B67-95AC-AC6F953A48E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1C68-3934-46FD-A9F6-7EC01C5AA2C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F27-D363-4C22-9A4D-2AF570D6EF0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06EC-29AC-4E31-8A25-CF9780D154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E1DA-35BB-42B5-988E-51346FFA6BB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견인 중인 수레의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던져진 투사체의 운동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D490-FD8A-4326-900D-C67533FD80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0ED-DC46-4EA4-9C3F-A4F54281D7A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034B-6D84-4DCC-A333-3F56A13567B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7AE-F1DF-45B5-AA0F-11372BD656E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6CED-092E-4F9A-9507-B1C1B0E4583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B68-800E-4A57-BF08-38E296C55E8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CCA-1570-4166-B67D-C99D9D02C6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그런데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활을 떠난 화살은 어떻게 움직이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 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아리스토텔레스의 설명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: ‘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공기’가 밀어준다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그렇다면 화살의 끝이 평평한 화살이 더 힘을 잘 받아야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en-US" sz="2200" spc="-1" strike="noStrike">
                <a:solidFill>
                  <a:srgbClr val="c0504d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c0504d"/>
                </a:solidFill>
                <a:latin typeface="맑은 고딕"/>
              </a:rPr>
              <a:t>팽이는 어떻게 계속 돌 수 있나</a:t>
            </a:r>
            <a:r>
              <a:rPr b="0" lang="en-US" sz="2200" spc="-1" strike="noStrike">
                <a:solidFill>
                  <a:srgbClr val="c0504d"/>
                </a:solidFill>
                <a:latin typeface="맑은 고딕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4E7-B3C2-44B0-A98A-4586B158832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장 뷰리당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처음 운동원인은 임페투스를 물체에 전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임페투스의 크기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=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질량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x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속력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즉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mv 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운동량과 크기는 같지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임페투스가 점점 소진되어 정지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여전히 자연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gravitas) vs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강제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impetus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구분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25F-1038-4B54-8D4C-276EC6668EE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681-A446-40D0-85C5-EC792848509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영국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Merton College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학자들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운동에 대한 기하학적 기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가로축에 시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세로축에 속도를 표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그래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순간 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평균 속도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질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속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’, 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일하게 비균질한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가속 운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등의 개념 고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오렘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(1323-1382)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평균속도 정리 및 증명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균일하게 비균질한 운동’을 하는 물체가 움직인 거리를 그 평균속도로 ‘균질하게 운동’할 때의 거리로 환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실제 운동에 적용하진 않음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원인에 대한 무관심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현상만 기술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2EF-BDFF-4427-B507-1E4C9650BBF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CAC-8397-483A-AD5B-83064D31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225-2D5F-400A-A997-B555E1F6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1A0-CA9E-4586-9565-B34D709C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9A6-BF2E-4D32-B521-FA27CE4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82B-C403-4E38-B5C8-4324DBC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E4D-81FF-4E9A-A610-3E0DE30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E2F-57B9-4E6E-9B09-5FAF78F8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A51-D2A4-4451-9B0D-EAE76BD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293-8926-47B6-82C4-B0F47F11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310-9EDF-46D7-978D-F8180C8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803-1D16-4D18-AA06-D1D5E6C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1F0-398B-45BE-82FE-ECA6C617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D335-559E-4B54-BFC6-268701DAB970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4.wmf"/><Relationship Id="rId36" Type="http://schemas.openxmlformats.org/officeDocument/2006/relationships/image" Target="../media/image25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6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4.wmf"/><Relationship Id="rId26" Type="http://schemas.openxmlformats.org/officeDocument/2006/relationships/image" Target="../media/image25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갈릴레오와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새로운 역학의 탄생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Trebuchet MS"/>
              </a:rPr>
              <a:t>코페르니쿠스의 태양중심설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1543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0" name="Picture 4" descr="cop-sys-bb"/>
          <p:cNvPicPr/>
          <p:nvPr/>
        </p:nvPicPr>
        <p:blipFill>
          <a:blip r:embed="rId1"/>
          <a:stretch/>
        </p:blipFill>
        <p:spPr>
          <a:xfrm>
            <a:off x="1506600" y="189000"/>
            <a:ext cx="6089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508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 갈릴레이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Italy, 1564-1642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57326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학자로서 경력 쌓은 후 메디치가의 철학자로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3" name="Picture 2" descr="http://upload.wikimedia.org/wikipedia/commons/thumb/d/d4/Justus_Sustermans_-_Portrait_of_Galileo_Galilei%2C_1636.jpg/225px-Justus_Sustermans_-_Portrait_of_Galileo_Galilei%2C_1636.jpg"/>
          <p:cNvPicPr/>
          <p:nvPr/>
        </p:nvPicPr>
        <p:blipFill>
          <a:blip r:embed="rId1"/>
          <a:stretch/>
        </p:blipFill>
        <p:spPr>
          <a:xfrm>
            <a:off x="2843280" y="260280"/>
            <a:ext cx="3570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의 운동론 비판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피사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파도바 대학 시절의 연구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--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De Motu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590s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운동 ∝ 힘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저항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Georgia"/>
              </a:rPr>
              <a:t>No!</a:t>
            </a:r>
            <a:endParaRPr b="0" lang="en-US" sz="5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5516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무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에 비례하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0" name="Picture 6" descr="돌실험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195640" y="620640"/>
            <a:ext cx="4935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537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은 매질의 저항에 반비례하지 않는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 ∝ 물체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3" name="Picture 4" descr="밀도실험1"/>
          <p:cNvPicPr/>
          <p:nvPr/>
        </p:nvPicPr>
        <p:blipFill>
          <a:blip r:embed="rId1"/>
          <a:stretch/>
        </p:blipFill>
        <p:spPr>
          <a:xfrm>
            <a:off x="971640" y="765000"/>
            <a:ext cx="359712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밀도실험2"/>
          <p:cNvPicPr/>
          <p:nvPr/>
        </p:nvPicPr>
        <p:blipFill>
          <a:blip r:embed="rId2"/>
          <a:stretch/>
        </p:blipFill>
        <p:spPr>
          <a:xfrm>
            <a:off x="4788000" y="765000"/>
            <a:ext cx="3597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551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저항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=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매질의 밀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같은 밀도의 물체는 무게와 상관 없이 똑같이 낙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7" name="Picture 6" descr="돌실험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195640" y="476280"/>
            <a:ext cx="4935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유낙하 법칙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604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이 없다면 모든 물체는 종류나 크기에 상관없이 동일한 속도로 낙하하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낙하하는 물체의 속도는 시간에 비례하여 증가한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11640" y="2420640"/>
            <a:ext cx="4316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rebuchet MS"/>
              </a:rPr>
              <a:t>낙하거리 법칙</a:t>
            </a:r>
            <a:endParaRPr b="1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360" y="4005360"/>
            <a:ext cx="42433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∝ </a:t>
            </a: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t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가정으로부터 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s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∝ </a:t>
            </a:r>
            <a:r>
              <a:rPr b="0" i="1" lang="en-US" sz="2700" spc="-1" strike="noStrike">
                <a:solidFill>
                  <a:srgbClr val="ffc000"/>
                </a:solidFill>
                <a:latin typeface="Georgia"/>
              </a:rPr>
              <a:t>t</a:t>
            </a:r>
            <a:r>
              <a:rPr b="0" lang="en-US" sz="2700" spc="-1" strike="noStrike" baseline="30000">
                <a:solidFill>
                  <a:srgbClr val="ffc000"/>
                </a:solidFill>
                <a:latin typeface="Georgia"/>
              </a:rPr>
              <a:t>2</a:t>
            </a:r>
            <a:r>
              <a:rPr b="0" lang="en-US" sz="27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연역적으로 도출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c000"/>
                </a:solidFill>
                <a:latin typeface="Georgia"/>
              </a:rPr>
              <a:t>이후 실험적으로 입증 시도</a:t>
            </a: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000"/>
              </a:solidFill>
              <a:latin typeface="Georgia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새로운 두 과학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》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(1638)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에서 발표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2" name="Picture 5" descr="http://quotationsbook.com/assets/shared/img/2707/358px-Galileo-1638-173.jpg"/>
          <p:cNvPicPr/>
          <p:nvPr/>
        </p:nvPicPr>
        <p:blipFill>
          <a:blip r:embed="rId1"/>
          <a:stretch/>
        </p:blipFill>
        <p:spPr>
          <a:xfrm>
            <a:off x="684360" y="620640"/>
            <a:ext cx="3409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경사면 실험을 통한 입증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5" name="Picture 2" descr="http://image.aladin.co.kr/Community/mypaper/pimg_709771134517558.jpg"/>
          <p:cNvPicPr/>
          <p:nvPr/>
        </p:nvPicPr>
        <p:blipFill>
          <a:blip r:embed="rId1"/>
          <a:stretch/>
        </p:blipFill>
        <p:spPr>
          <a:xfrm>
            <a:off x="1763640" y="692280"/>
            <a:ext cx="5904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리스토텔레스의 운동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망원경으로 하늘을 보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98" name="Picture 4" descr="g_telescope"/>
          <p:cNvPicPr/>
          <p:nvPr/>
        </p:nvPicPr>
        <p:blipFill>
          <a:blip r:embed="rId1"/>
          <a:stretch/>
        </p:blipFill>
        <p:spPr>
          <a:xfrm>
            <a:off x="2916360" y="981000"/>
            <a:ext cx="3287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울퉁불퉁한 달 표면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1" name="Picture 3" descr="g_sidnun_moon"/>
          <p:cNvPicPr/>
          <p:nvPr/>
        </p:nvPicPr>
        <p:blipFill>
          <a:blip r:embed="rId1"/>
          <a:stretch/>
        </p:blipFill>
        <p:spPr>
          <a:xfrm>
            <a:off x="684360" y="2133720"/>
            <a:ext cx="7929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태양의 흑점 변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4" name="Picture 3" descr="galileo sunspot"/>
          <p:cNvPicPr/>
          <p:nvPr/>
        </p:nvPicPr>
        <p:blipFill>
          <a:blip r:embed="rId1"/>
          <a:stretch/>
        </p:blipFill>
        <p:spPr>
          <a:xfrm>
            <a:off x="539640" y="1125360"/>
            <a:ext cx="4041720" cy="416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ketches on sunspot"/>
          <p:cNvPicPr/>
          <p:nvPr/>
        </p:nvPicPr>
        <p:blipFill>
          <a:blip r:embed="rId2"/>
          <a:stretch/>
        </p:blipFill>
        <p:spPr>
          <a:xfrm>
            <a:off x="4643280" y="1125360"/>
            <a:ext cx="42087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목성의 위성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08" name="Picture 5" descr="jupconfig"/>
          <p:cNvPicPr/>
          <p:nvPr/>
        </p:nvPicPr>
        <p:blipFill>
          <a:blip r:embed="rId1"/>
          <a:stretch/>
        </p:blipFill>
        <p:spPr>
          <a:xfrm>
            <a:off x="4375080" y="333360"/>
            <a:ext cx="4229280" cy="511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zolaist.org/wiki/images/5/56/%EB%AA%A9%EC%84%B1%EC%9D%98_%EC%9C%84%EC%84%B1_%EC%9A%B4%EB%8F%99%EC%9D%84_%EA%B8%B0%EB%A1%9D%ED%95%9C_%EA%B0%88%EB%A6%B4%EB%A0%88%EC%98%A4%EC%9D%98_%EB%85%B8%ED%8A%B8.jpg"/>
          <p:cNvPicPr/>
          <p:nvPr/>
        </p:nvPicPr>
        <p:blipFill>
          <a:blip r:embed="rId2"/>
          <a:stretch/>
        </p:blipFill>
        <p:spPr>
          <a:xfrm>
            <a:off x="630360" y="333360"/>
            <a:ext cx="3620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금성의 위상 변화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12" name="Picture 4" descr="venus-ptolemaic"/>
          <p:cNvPicPr/>
          <p:nvPr/>
        </p:nvPicPr>
        <p:blipFill>
          <a:blip r:embed="rId1"/>
          <a:stretch/>
        </p:blipFill>
        <p:spPr>
          <a:xfrm>
            <a:off x="468360" y="692280"/>
            <a:ext cx="4167000" cy="49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Picture 5" descr="venus-copernican"/>
          <p:cNvPicPr/>
          <p:nvPr/>
        </p:nvPicPr>
        <p:blipFill>
          <a:blip r:embed="rId2"/>
          <a:stretch/>
        </p:blipFill>
        <p:spPr>
          <a:xfrm>
            <a:off x="4645080" y="692280"/>
            <a:ext cx="415620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금성 위상 변화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=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결정적 증거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403280" y="333360"/>
          <a:ext cx="64818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33360"/>
                    <a:ext cx="64818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0" name="Picture 5" descr="Scan0044"/>
          <p:cNvPicPr/>
          <p:nvPr/>
        </p:nvPicPr>
        <p:blipFill>
          <a:blip r:embed="rId1"/>
          <a:srcRect l="0" t="3571" r="2532" b="5952"/>
          <a:stretch/>
        </p:blipFill>
        <p:spPr>
          <a:xfrm>
            <a:off x="1908000" y="981000"/>
            <a:ext cx="5214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태양중심설의 전도사가 된 갈릴레오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우주의 중심에 지구가 있는 것이 아니라면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그리고 지구가 태양 주위를 선회하고 있다면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, 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물체는 왜 우주의 중심이 아닌 지구를 향해 떨어지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우리는 왜 지구의 운동을 인식하지 못하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Georgia"/>
              </a:rPr>
              <a:t>수직으로 쏘아 올린 화살은 왜 뒤쳐지지 않는가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566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《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두 가지 주요한 우주 체계에 관한 대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》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1632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125" name="Picture 2" descr="http://image.aladin.co.kr/Community/mypaper/pimg_709771134517570.png"/>
          <p:cNvPicPr/>
          <p:nvPr/>
        </p:nvPicPr>
        <p:blipFill>
          <a:blip r:embed="rId1"/>
          <a:stretch/>
        </p:blipFill>
        <p:spPr>
          <a:xfrm>
            <a:off x="1116000" y="476280"/>
            <a:ext cx="7015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지구가 운동하더라도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문제가 발생하지 않는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의 상대성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의 분해와 합성 도입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자연스러운 운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잠재된 본성의 실현 과정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무거움에 의한 자유낙하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가벼움에 의한 수직상승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Georgia"/>
              </a:rPr>
              <a:t>천구의 영원한 등속원운동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1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탑에서 떨어뜨린 공은 수직으로 지구중심을 향해 떨어진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4005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지구가 우주의 중심이며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회전하지 않는다는 뜻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탑 꼭대기에서 떨어뜨린 공이 바로 밑으로 떨어진다 하더라도 그걸 갖고 지구가 가만히 있는지 아니면 움직이는지 추론할 수는 없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그림 4" descr="피사의사탑.png"/>
          <p:cNvPicPr/>
          <p:nvPr/>
        </p:nvPicPr>
        <p:blipFill>
          <a:blip r:embed="rId1"/>
          <a:stretch/>
        </p:blipFill>
        <p:spPr>
          <a:xfrm>
            <a:off x="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6" descr="피사의사탑.png"/>
          <p:cNvPicPr/>
          <p:nvPr/>
        </p:nvPicPr>
        <p:blipFill>
          <a:blip r:embed="rId2"/>
          <a:stretch/>
        </p:blipFill>
        <p:spPr>
          <a:xfrm>
            <a:off x="144000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7" descr="피사의사탑.png"/>
          <p:cNvPicPr/>
          <p:nvPr/>
        </p:nvPicPr>
        <p:blipFill>
          <a:blip r:embed="rId3"/>
          <a:stretch/>
        </p:blipFill>
        <p:spPr>
          <a:xfrm>
            <a:off x="4319640" y="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8" descr="피사의사탑.png"/>
          <p:cNvPicPr/>
          <p:nvPr/>
        </p:nvPicPr>
        <p:blipFill>
          <a:blip r:embed="rId4"/>
          <a:stretch/>
        </p:blipFill>
        <p:spPr>
          <a:xfrm>
            <a:off x="719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9" descr="피사의사탑.png"/>
          <p:cNvPicPr/>
          <p:nvPr/>
        </p:nvPicPr>
        <p:blipFill>
          <a:blip r:embed="rId5"/>
          <a:stretch/>
        </p:blipFill>
        <p:spPr>
          <a:xfrm>
            <a:off x="287964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0" descr="피사의사탑.png"/>
          <p:cNvPicPr/>
          <p:nvPr/>
        </p:nvPicPr>
        <p:blipFill>
          <a:blip r:embed="rId6"/>
          <a:stretch/>
        </p:blipFill>
        <p:spPr>
          <a:xfrm>
            <a:off x="5759280" y="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1403280" y="512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Program Files\Microsoft Office\MEDIA\OFFICE12\Bullets\BD21294_.gif"/>
          <p:cNvPicPr/>
          <p:nvPr/>
        </p:nvPicPr>
        <p:blipFill>
          <a:blip r:embed="rId8"/>
          <a:stretch/>
        </p:blipFill>
        <p:spPr>
          <a:xfrm>
            <a:off x="1403280" y="620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Program Files\Microsoft Office\MEDIA\OFFICE12\Bullets\BD21294_.gif"/>
          <p:cNvPicPr/>
          <p:nvPr/>
        </p:nvPicPr>
        <p:blipFill>
          <a:blip r:embed="rId9"/>
          <a:stretch/>
        </p:blipFill>
        <p:spPr>
          <a:xfrm>
            <a:off x="1403280" y="94464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403280" y="1484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1403280" y="224172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403280" y="32130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2843280" y="6224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8604360" y="321480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7164360" y="22431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5724360" y="148752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4284720" y="9460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49" name="그림 24" descr="피사의사탑.png"/>
          <p:cNvPicPr/>
          <p:nvPr/>
        </p:nvPicPr>
        <p:blipFill>
          <a:blip r:embed="rId18"/>
          <a:stretch/>
        </p:blipFill>
        <p:spPr>
          <a:xfrm>
            <a:off x="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25" descr="피사의사탑.png"/>
          <p:cNvPicPr/>
          <p:nvPr/>
        </p:nvPicPr>
        <p:blipFill>
          <a:blip r:embed="rId19"/>
          <a:stretch/>
        </p:blipFill>
        <p:spPr>
          <a:xfrm>
            <a:off x="144000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26" descr="피사의사탑.png"/>
          <p:cNvPicPr/>
          <p:nvPr/>
        </p:nvPicPr>
        <p:blipFill>
          <a:blip r:embed="rId20"/>
          <a:stretch/>
        </p:blipFill>
        <p:spPr>
          <a:xfrm>
            <a:off x="4319640" y="3263760"/>
            <a:ext cx="1854000" cy="359424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27" descr="피사의사탑.png"/>
          <p:cNvPicPr/>
          <p:nvPr/>
        </p:nvPicPr>
        <p:blipFill>
          <a:blip r:embed="rId21"/>
          <a:stretch/>
        </p:blipFill>
        <p:spPr>
          <a:xfrm>
            <a:off x="719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28" descr="피사의사탑.png"/>
          <p:cNvPicPr/>
          <p:nvPr/>
        </p:nvPicPr>
        <p:blipFill>
          <a:blip r:embed="rId22"/>
          <a:stretch/>
        </p:blipFill>
        <p:spPr>
          <a:xfrm>
            <a:off x="287964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29" descr="피사의사탑.png"/>
          <p:cNvPicPr/>
          <p:nvPr/>
        </p:nvPicPr>
        <p:blipFill>
          <a:blip r:embed="rId23"/>
          <a:stretch/>
        </p:blipFill>
        <p:spPr>
          <a:xfrm>
            <a:off x="5759280" y="3263760"/>
            <a:ext cx="1854360" cy="3594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1403280" y="3776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Program Files\Microsoft Office\MEDIA\OFFICE12\Bullets\BD21294_.gif"/>
          <p:cNvPicPr/>
          <p:nvPr/>
        </p:nvPicPr>
        <p:blipFill>
          <a:blip r:embed="rId25"/>
          <a:stretch/>
        </p:blipFill>
        <p:spPr>
          <a:xfrm>
            <a:off x="1403280" y="3884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Program Files\Microsoft Office\MEDIA\OFFICE12\Bullets\BD21294_.gif"/>
          <p:cNvPicPr/>
          <p:nvPr/>
        </p:nvPicPr>
        <p:blipFill>
          <a:blip r:embed="rId26"/>
          <a:stretch/>
        </p:blipFill>
        <p:spPr>
          <a:xfrm>
            <a:off x="1403280" y="421020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Program Files\Microsoft Office\MEDIA\OFFICE12\Bullets\BD21294_.gif"/>
          <p:cNvPicPr/>
          <p:nvPr/>
        </p:nvPicPr>
        <p:blipFill>
          <a:blip r:embed="rId27"/>
          <a:stretch/>
        </p:blipFill>
        <p:spPr>
          <a:xfrm>
            <a:off x="1403280" y="4749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Program Files\Microsoft Office\MEDIA\OFFICE12\Bullets\BD21294_.gif"/>
          <p:cNvPicPr/>
          <p:nvPr/>
        </p:nvPicPr>
        <p:blipFill>
          <a:blip r:embed="rId28"/>
          <a:stretch/>
        </p:blipFill>
        <p:spPr>
          <a:xfrm>
            <a:off x="1403280" y="550548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Program Files\Microsoft Office\MEDIA\OFFICE12\Bullets\BD21294_.gif"/>
          <p:cNvPicPr/>
          <p:nvPr/>
        </p:nvPicPr>
        <p:blipFill>
          <a:blip r:embed="rId29"/>
          <a:stretch/>
        </p:blipFill>
        <p:spPr>
          <a:xfrm>
            <a:off x="1403280" y="64771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Program Files\Microsoft Office\MEDIA\OFFICE12\Bullets\BD21294_.gif"/>
          <p:cNvPicPr/>
          <p:nvPr/>
        </p:nvPicPr>
        <p:blipFill>
          <a:blip r:embed="rId30"/>
          <a:stretch/>
        </p:blipFill>
        <p:spPr>
          <a:xfrm>
            <a:off x="2843280" y="3887640"/>
            <a:ext cx="288720" cy="28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Program Files\Microsoft Office\MEDIA\OFFICE12\Bullets\BD21294_.gif"/>
          <p:cNvPicPr/>
          <p:nvPr/>
        </p:nvPicPr>
        <p:blipFill>
          <a:blip r:embed="rId31"/>
          <a:stretch/>
        </p:blipFill>
        <p:spPr>
          <a:xfrm>
            <a:off x="8604360" y="64785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Program Files\Microsoft Office\MEDIA\OFFICE12\Bullets\BD21294_.gif"/>
          <p:cNvPicPr/>
          <p:nvPr/>
        </p:nvPicPr>
        <p:blipFill>
          <a:blip r:embed="rId32"/>
          <a:stretch/>
        </p:blipFill>
        <p:spPr>
          <a:xfrm>
            <a:off x="7164360" y="55069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Program Files\Microsoft Office\MEDIA\OFFICE12\Bullets\BD21294_.gif"/>
          <p:cNvPicPr/>
          <p:nvPr/>
        </p:nvPicPr>
        <p:blipFill>
          <a:blip r:embed="rId33"/>
          <a:stretch/>
        </p:blipFill>
        <p:spPr>
          <a:xfrm>
            <a:off x="5724360" y="4751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Program Files\Microsoft Office\MEDIA\OFFICE12\Bullets\BD21294_.gif"/>
          <p:cNvPicPr/>
          <p:nvPr/>
        </p:nvPicPr>
        <p:blipFill>
          <a:blip r:embed="rId34"/>
          <a:stretch/>
        </p:blipFill>
        <p:spPr>
          <a:xfrm>
            <a:off x="4284720" y="421164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66" name="그룹 41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167" name="Picture 7" descr="C:\Documents and Settings\Administrator\Local Settings\Temporary Internet Files\Content.IE5\IDR1O1MZ\MC900354335[1].wmf"/>
            <p:cNvPicPr/>
            <p:nvPr/>
          </p:nvPicPr>
          <p:blipFill>
            <a:blip r:embed="rId3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C:\Documents and Settings\Administrator\Local Settings\Temporary Internet Files\Content.IE5\W1QRJ7S6\MC900353601[1].wmf"/>
            <p:cNvPicPr/>
            <p:nvPr/>
          </p:nvPicPr>
          <p:blipFill>
            <a:blip r:embed="rId3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2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탑이 움직인다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공은 탑과 함께 움직일 수 없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 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정지한 배에서 떨어뜨린 공은 제자리에 떨어지지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움직이는 배에서 떨어뜨린 공은 뒤쳐지지 않는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은 늘 갑판의 같은 지점에 떨어져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배가 가만히 있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또는 어떠한 속력으로 움직이든 늘 마찬가지야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그림 53" descr="돛단배.png"/>
          <p:cNvPicPr/>
          <p:nvPr/>
        </p:nvPicPr>
        <p:blipFill>
          <a:blip r:embed="rId1"/>
          <a:stretch/>
        </p:blipFill>
        <p:spPr>
          <a:xfrm>
            <a:off x="725976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174" name="그림 54" descr="돛단배.png"/>
          <p:cNvPicPr/>
          <p:nvPr/>
        </p:nvPicPr>
        <p:blipFill>
          <a:blip r:embed="rId2"/>
          <a:stretch/>
        </p:blipFill>
        <p:spPr>
          <a:xfrm>
            <a:off x="5459400" y="331920"/>
            <a:ext cx="2519280" cy="2950920"/>
          </a:xfrm>
          <a:prstGeom prst="rect">
            <a:avLst/>
          </a:prstGeom>
          <a:ln w="0">
            <a:noFill/>
          </a:ln>
        </p:spPr>
      </p:pic>
      <p:pic>
        <p:nvPicPr>
          <p:cNvPr id="175" name="그림 52" descr="돛단배.png"/>
          <p:cNvPicPr/>
          <p:nvPr/>
        </p:nvPicPr>
        <p:blipFill>
          <a:blip r:embed="rId3"/>
          <a:stretch/>
        </p:blipFill>
        <p:spPr>
          <a:xfrm>
            <a:off x="366084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176" name="그림 51" descr="돛단배.png"/>
          <p:cNvPicPr/>
          <p:nvPr/>
        </p:nvPicPr>
        <p:blipFill>
          <a:blip r:embed="rId4"/>
          <a:stretch/>
        </p:blipFill>
        <p:spPr>
          <a:xfrm>
            <a:off x="1860480" y="331920"/>
            <a:ext cx="2517840" cy="2950920"/>
          </a:xfrm>
          <a:prstGeom prst="rect">
            <a:avLst/>
          </a:prstGeom>
          <a:ln w="0">
            <a:noFill/>
          </a:ln>
        </p:spPr>
      </p:pic>
      <p:pic>
        <p:nvPicPr>
          <p:cNvPr id="177" name="그림 40" descr="돛단배.png"/>
          <p:cNvPicPr/>
          <p:nvPr/>
        </p:nvPicPr>
        <p:blipFill>
          <a:blip r:embed="rId5"/>
          <a:stretch/>
        </p:blipFill>
        <p:spPr>
          <a:xfrm>
            <a:off x="0" y="390384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78" name="그림 41" descr="돛단배.png"/>
          <p:cNvPicPr/>
          <p:nvPr/>
        </p:nvPicPr>
        <p:blipFill>
          <a:blip r:embed="rId6"/>
          <a:stretch/>
        </p:blipFill>
        <p:spPr>
          <a:xfrm>
            <a:off x="7199280" y="390528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그림 42" descr="돛단배.png"/>
          <p:cNvPicPr/>
          <p:nvPr/>
        </p:nvPicPr>
        <p:blipFill>
          <a:blip r:embed="rId7"/>
          <a:stretch/>
        </p:blipFill>
        <p:spPr>
          <a:xfrm>
            <a:off x="540072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그림 43" descr="돛단배.png"/>
          <p:cNvPicPr/>
          <p:nvPr/>
        </p:nvPicPr>
        <p:blipFill>
          <a:blip r:embed="rId8"/>
          <a:stretch/>
        </p:blipFill>
        <p:spPr>
          <a:xfrm>
            <a:off x="36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44" descr="돛단배.png"/>
          <p:cNvPicPr/>
          <p:nvPr/>
        </p:nvPicPr>
        <p:blipFill>
          <a:blip r:embed="rId9"/>
          <a:stretch/>
        </p:blipFill>
        <p:spPr>
          <a:xfrm>
            <a:off x="1800360" y="3905280"/>
            <a:ext cx="2638440" cy="295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Program Files\Microsoft Office\MEDIA\OFFICE12\Bullets\BD21294_.gif"/>
          <p:cNvPicPr/>
          <p:nvPr/>
        </p:nvPicPr>
        <p:blipFill>
          <a:blip r:embed="rId10"/>
          <a:stretch/>
        </p:blipFill>
        <p:spPr>
          <a:xfrm>
            <a:off x="1116000" y="389412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Program Files\Microsoft Office\MEDIA\OFFICE12\Bullets\BD21294_.gif"/>
          <p:cNvPicPr/>
          <p:nvPr/>
        </p:nvPicPr>
        <p:blipFill>
          <a:blip r:embed="rId11"/>
          <a:stretch/>
        </p:blipFill>
        <p:spPr>
          <a:xfrm>
            <a:off x="8315280" y="562284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Program Files\Microsoft Office\MEDIA\OFFICE12\Bullets\BD21294_.gif"/>
          <p:cNvPicPr/>
          <p:nvPr/>
        </p:nvPicPr>
        <p:blipFill>
          <a:blip r:embed="rId12"/>
          <a:stretch/>
        </p:blipFill>
        <p:spPr>
          <a:xfrm>
            <a:off x="111600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Program Files\Microsoft Office\MEDIA\OFFICE12\Bullets\BD21294_.gif"/>
          <p:cNvPicPr/>
          <p:nvPr/>
        </p:nvPicPr>
        <p:blipFill>
          <a:blip r:embed="rId13"/>
          <a:stretch/>
        </p:blipFill>
        <p:spPr>
          <a:xfrm>
            <a:off x="471636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Program Files\Microsoft Office\MEDIA\OFFICE12\Bullets\BD21294_.gif"/>
          <p:cNvPicPr/>
          <p:nvPr/>
        </p:nvPicPr>
        <p:blipFill>
          <a:blip r:embed="rId14"/>
          <a:stretch/>
        </p:blipFill>
        <p:spPr>
          <a:xfrm>
            <a:off x="2916360" y="400212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Program Files\Microsoft Office\MEDIA\OFFICE12\Bullets\BD21294_.gif"/>
          <p:cNvPicPr/>
          <p:nvPr/>
        </p:nvPicPr>
        <p:blipFill>
          <a:blip r:embed="rId15"/>
          <a:stretch/>
        </p:blipFill>
        <p:spPr>
          <a:xfrm>
            <a:off x="1116000" y="562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Program Files\Microsoft Office\MEDIA\OFFICE12\Bullets\BD21294_.gif"/>
          <p:cNvPicPr/>
          <p:nvPr/>
        </p:nvPicPr>
        <p:blipFill>
          <a:blip r:embed="rId16"/>
          <a:stretch/>
        </p:blipFill>
        <p:spPr>
          <a:xfrm>
            <a:off x="111600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Program Files\Microsoft Office\MEDIA\OFFICE12\Bullets\BD21294_.gif"/>
          <p:cNvPicPr/>
          <p:nvPr/>
        </p:nvPicPr>
        <p:blipFill>
          <a:blip r:embed="rId17"/>
          <a:stretch/>
        </p:blipFill>
        <p:spPr>
          <a:xfrm>
            <a:off x="1116000" y="43275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Program Files\Microsoft Office\MEDIA\OFFICE12\Bullets\BD21294_.gif"/>
          <p:cNvPicPr/>
          <p:nvPr/>
        </p:nvPicPr>
        <p:blipFill>
          <a:blip r:embed="rId18"/>
          <a:stretch/>
        </p:blipFill>
        <p:spPr>
          <a:xfrm>
            <a:off x="6516720" y="4867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45" descr="돛단배.png"/>
          <p:cNvPicPr/>
          <p:nvPr/>
        </p:nvPicPr>
        <p:blipFill>
          <a:blip r:embed="rId19"/>
          <a:stretch/>
        </p:blipFill>
        <p:spPr>
          <a:xfrm>
            <a:off x="60480" y="333360"/>
            <a:ext cx="2517480" cy="295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Program Files\Microsoft Office\MEDIA\OFFICE12\Bullets\BD21294_.gif"/>
          <p:cNvPicPr/>
          <p:nvPr/>
        </p:nvPicPr>
        <p:blipFill>
          <a:blip r:embed="rId20"/>
          <a:stretch/>
        </p:blipFill>
        <p:spPr>
          <a:xfrm>
            <a:off x="1116000" y="324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Program Files\Microsoft Office\MEDIA\OFFICE12\Bullets\BD21294_.gif"/>
          <p:cNvPicPr/>
          <p:nvPr/>
        </p:nvPicPr>
        <p:blipFill>
          <a:blip r:embed="rId21"/>
          <a:stretch/>
        </p:blipFill>
        <p:spPr>
          <a:xfrm>
            <a:off x="2916360" y="4316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Program Files\Microsoft Office\MEDIA\OFFICE12\Bullets\BD21294_.gif"/>
          <p:cNvPicPr/>
          <p:nvPr/>
        </p:nvPicPr>
        <p:blipFill>
          <a:blip r:embed="rId22"/>
          <a:stretch/>
        </p:blipFill>
        <p:spPr>
          <a:xfrm>
            <a:off x="8315280" y="2050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Program Files\Microsoft Office\MEDIA\OFFICE12\Bullets\BD21294_.gif"/>
          <p:cNvPicPr/>
          <p:nvPr/>
        </p:nvPicPr>
        <p:blipFill>
          <a:blip r:embed="rId23"/>
          <a:stretch/>
        </p:blipFill>
        <p:spPr>
          <a:xfrm>
            <a:off x="6516720" y="129528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Program Files\Microsoft Office\MEDIA\OFFICE12\Bullets\BD21294_.gif"/>
          <p:cNvPicPr/>
          <p:nvPr/>
        </p:nvPicPr>
        <p:blipFill>
          <a:blip r:embed="rId24"/>
          <a:stretch/>
        </p:blipFill>
        <p:spPr>
          <a:xfrm>
            <a:off x="4716360" y="75564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97" name="자유형 57"/>
          <p:cNvSpPr/>
          <p:nvPr/>
        </p:nvSpPr>
        <p:spPr>
          <a:xfrm>
            <a:off x="1227240" y="3992400"/>
            <a:ext cx="1828800" cy="111240"/>
          </a:xfrm>
          <a:custGeom>
            <a:avLst/>
            <a:gdLst/>
            <a:ahLst/>
            <a:rect l="l" t="t" r="r" b="b"/>
            <a:pathLst>
              <a:path w="1828800" h="111512">
                <a:moveTo>
                  <a:pt x="0" y="0"/>
                </a:moveTo>
                <a:cubicBezTo>
                  <a:pt x="215590" y="1858"/>
                  <a:pt x="431181" y="3717"/>
                  <a:pt x="735981" y="22302"/>
                </a:cubicBezTo>
                <a:cubicBezTo>
                  <a:pt x="1040781" y="40887"/>
                  <a:pt x="1828800" y="111512"/>
                  <a:pt x="1828800" y="111512"/>
                </a:cubicBezTo>
                <a:lnTo>
                  <a:pt x="1828800" y="111512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자유형 59"/>
          <p:cNvSpPr/>
          <p:nvPr/>
        </p:nvSpPr>
        <p:spPr>
          <a:xfrm>
            <a:off x="4840200" y="4437000"/>
            <a:ext cx="1806840" cy="536760"/>
          </a:xfrm>
          <a:custGeom>
            <a:avLst/>
            <a:gdLst/>
            <a:ahLst/>
            <a:rect l="l" t="t" r="r" b="b"/>
            <a:pathLst>
              <a:path w="1806498" h="490654">
                <a:moveTo>
                  <a:pt x="0" y="0"/>
                </a:moveTo>
                <a:cubicBezTo>
                  <a:pt x="328961" y="70624"/>
                  <a:pt x="657922" y="141249"/>
                  <a:pt x="959005" y="223025"/>
                </a:cubicBezTo>
                <a:cubicBezTo>
                  <a:pt x="1260088" y="304801"/>
                  <a:pt x="1806498" y="490654"/>
                  <a:pt x="1806498" y="490654"/>
                </a:cubicBezTo>
                <a:lnTo>
                  <a:pt x="1806498" y="490654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자유형 60"/>
          <p:cNvSpPr/>
          <p:nvPr/>
        </p:nvSpPr>
        <p:spPr>
          <a:xfrm>
            <a:off x="6516720" y="4941720"/>
            <a:ext cx="1906560" cy="812880"/>
          </a:xfrm>
          <a:custGeom>
            <a:avLst/>
            <a:gdLst/>
            <a:ahLst/>
            <a:rect l="l" t="t" r="r" b="b"/>
            <a:pathLst>
              <a:path w="1776761" h="735980">
                <a:moveTo>
                  <a:pt x="0" y="0"/>
                </a:moveTo>
                <a:cubicBezTo>
                  <a:pt x="429322" y="144966"/>
                  <a:pt x="858644" y="289932"/>
                  <a:pt x="1137424" y="401444"/>
                </a:cubicBezTo>
                <a:cubicBezTo>
                  <a:pt x="1416205" y="512956"/>
                  <a:pt x="1568605" y="613317"/>
                  <a:pt x="1672683" y="669073"/>
                </a:cubicBezTo>
                <a:cubicBezTo>
                  <a:pt x="1776761" y="724829"/>
                  <a:pt x="1769327" y="730404"/>
                  <a:pt x="1761893" y="73598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" name="자유형 61"/>
          <p:cNvSpPr/>
          <p:nvPr/>
        </p:nvSpPr>
        <p:spPr>
          <a:xfrm>
            <a:off x="2989440" y="4103640"/>
            <a:ext cx="1804680" cy="289080"/>
          </a:xfrm>
          <a:custGeom>
            <a:avLst/>
            <a:gdLst/>
            <a:ahLst/>
            <a:rect l="l" t="t" r="r" b="b"/>
            <a:pathLst>
              <a:path w="1806497" h="289932">
                <a:moveTo>
                  <a:pt x="0" y="0"/>
                </a:moveTo>
                <a:cubicBezTo>
                  <a:pt x="239751" y="20444"/>
                  <a:pt x="479502" y="40888"/>
                  <a:pt x="780585" y="89210"/>
                </a:cubicBezTo>
                <a:cubicBezTo>
                  <a:pt x="1081668" y="137532"/>
                  <a:pt x="1806497" y="289932"/>
                  <a:pt x="1806497" y="289932"/>
                </a:cubicBezTo>
                <a:lnTo>
                  <a:pt x="1806497" y="289932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1" name="그룹 62"/>
          <p:cNvGrpSpPr/>
          <p:nvPr/>
        </p:nvGrpSpPr>
        <p:grpSpPr>
          <a:xfrm>
            <a:off x="468360" y="333360"/>
            <a:ext cx="1942920" cy="3338640"/>
            <a:chOff x="468360" y="333360"/>
            <a:chExt cx="1942920" cy="3338640"/>
          </a:xfrm>
        </p:grpSpPr>
        <p:pic>
          <p:nvPicPr>
            <p:cNvPr id="202" name="Picture 7" descr="C:\Documents and Settings\Administrator\Local Settings\Temporary Internet Files\Content.IE5\IDR1O1MZ\MC900354335[1].wmf"/>
            <p:cNvPicPr/>
            <p:nvPr/>
          </p:nvPicPr>
          <p:blipFill>
            <a:blip r:embed="rId25"/>
            <a:stretch/>
          </p:blipFill>
          <p:spPr>
            <a:xfrm>
              <a:off x="468360" y="333360"/>
              <a:ext cx="1942920" cy="33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C:\Documents and Settings\Administrator\Local Settings\Temporary Internet Files\Content.IE5\W1QRJ7S6\MC900353601[1].wmf"/>
            <p:cNvPicPr/>
            <p:nvPr/>
          </p:nvPicPr>
          <p:blipFill>
            <a:blip r:embed="rId26"/>
            <a:stretch/>
          </p:blipFill>
          <p:spPr>
            <a:xfrm>
              <a:off x="828000" y="333360"/>
              <a:ext cx="1247400" cy="138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3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정말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해 봤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어떻게 가능한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실험할 필요도 없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33667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돌은 배와 함께 운동하면서 각인된 수평 운동을 계속하게 되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그 수평 운동은 속도가 줄어들거나 증가할 이유가 없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47973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내리막에서는 속력을 얻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오르막에서는 속력을 잃고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면에서는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10" name="Picture 4" descr="slope1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436572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저항이 없다면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면에서는 속력을 얻지도 잃지도 않으므로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일정한 운동이 영원히 지속될 것이다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213" name="Picture 5" descr="slope2"/>
          <p:cNvPicPr/>
          <p:nvPr/>
        </p:nvPicPr>
        <p:blipFill>
          <a:blip r:embed="rId1"/>
          <a:stretch/>
        </p:blipFill>
        <p:spPr>
          <a:xfrm>
            <a:off x="826920" y="1484280"/>
            <a:ext cx="7560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강제된 운동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본성을 거스르는 운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–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외부의 강제력 필요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Q4.</a:t>
            </a:r>
            <a:br>
              <a:rPr sz="4000"/>
            </a:b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두 가지 운동의 공존은 불가능해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하나의 운동이 다른 하나를 방해하지 않을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No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수평방향의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원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과 수직방향의 운동은 </a:t>
            </a:r>
            <a:br>
              <a:rPr sz="2600"/>
            </a:b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서로 어떤 방해도 하지 않지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55640" y="3357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3544920" y="1600200"/>
            <a:ext cx="2359080" cy="3413160"/>
            <a:chOff x="3544920" y="1600200"/>
            <a:chExt cx="2359080" cy="3413160"/>
          </a:xfrm>
        </p:grpSpPr>
        <p:pic>
          <p:nvPicPr>
            <p:cNvPr id="220" name="Picture 5" descr="parabolic4"/>
            <p:cNvPicPr/>
            <p:nvPr/>
          </p:nvPicPr>
          <p:blipFill>
            <a:blip r:embed="rId1"/>
            <a:stretch/>
          </p:blipFill>
          <p:spPr>
            <a:xfrm>
              <a:off x="3544920" y="1600200"/>
              <a:ext cx="235908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6"/>
            <p:cNvSpPr/>
            <p:nvPr/>
          </p:nvSpPr>
          <p:spPr>
            <a:xfrm>
              <a:off x="4318200" y="2320920"/>
              <a:ext cx="1512720" cy="26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222" name="Picture 7" descr="parabolic5"/>
          <p:cNvPicPr/>
          <p:nvPr/>
        </p:nvPicPr>
        <p:blipFill>
          <a:blip r:embed="rId2"/>
          <a:stretch/>
        </p:blipFill>
        <p:spPr>
          <a:xfrm>
            <a:off x="395280" y="1557360"/>
            <a:ext cx="2460600" cy="3529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7140600" y="15588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904000" y="19908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808360" y="1989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굴림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26" name="Picture 11" descr="parabolic4"/>
          <p:cNvPicPr/>
          <p:nvPr/>
        </p:nvPicPr>
        <p:blipFill>
          <a:blip r:embed="rId3"/>
          <a:stretch/>
        </p:blipFill>
        <p:spPr>
          <a:xfrm>
            <a:off x="3543480" y="1600200"/>
            <a:ext cx="2358720" cy="3413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1365120" y="21765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365120" y="354492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1509840" y="2392200"/>
            <a:ext cx="57600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1725480" y="2968560"/>
            <a:ext cx="72072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2230560" y="3832200"/>
            <a:ext cx="5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4317840" y="2247840"/>
            <a:ext cx="504720" cy="576360"/>
            <a:chOff x="4317840" y="2247840"/>
            <a:chExt cx="504720" cy="576360"/>
          </a:xfrm>
        </p:grpSpPr>
        <p:sp>
          <p:nvSpPr>
            <p:cNvPr id="233" name="Rectangle 18"/>
            <p:cNvSpPr/>
            <p:nvPr/>
          </p:nvSpPr>
          <p:spPr>
            <a:xfrm>
              <a:off x="4317840" y="246384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4462200" y="224784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35" name="Group 20"/>
          <p:cNvGrpSpPr/>
          <p:nvPr/>
        </p:nvGrpSpPr>
        <p:grpSpPr>
          <a:xfrm>
            <a:off x="4246560" y="2247840"/>
            <a:ext cx="1008000" cy="1152720"/>
            <a:chOff x="4246560" y="2247840"/>
            <a:chExt cx="1008000" cy="1152720"/>
          </a:xfrm>
        </p:grpSpPr>
        <p:sp>
          <p:nvSpPr>
            <p:cNvPr id="236" name="Rectangle 21"/>
            <p:cNvSpPr/>
            <p:nvPr/>
          </p:nvSpPr>
          <p:spPr>
            <a:xfrm>
              <a:off x="4246560" y="2608200"/>
              <a:ext cx="1008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4678200" y="224784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38" name="Group 23"/>
          <p:cNvGrpSpPr/>
          <p:nvPr/>
        </p:nvGrpSpPr>
        <p:grpSpPr>
          <a:xfrm>
            <a:off x="4173480" y="2247840"/>
            <a:ext cx="1441440" cy="2088720"/>
            <a:chOff x="4173480" y="2247840"/>
            <a:chExt cx="1441440" cy="2088720"/>
          </a:xfrm>
        </p:grpSpPr>
        <p:sp>
          <p:nvSpPr>
            <p:cNvPr id="239" name="Rectangle 24"/>
            <p:cNvSpPr/>
            <p:nvPr/>
          </p:nvSpPr>
          <p:spPr>
            <a:xfrm>
              <a:off x="4173480" y="3400200"/>
              <a:ext cx="14414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5182920" y="2247840"/>
              <a:ext cx="432000" cy="12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1" name="Group 26"/>
          <p:cNvGrpSpPr/>
          <p:nvPr/>
        </p:nvGrpSpPr>
        <p:grpSpPr>
          <a:xfrm>
            <a:off x="4173480" y="2247840"/>
            <a:ext cx="1657080" cy="2737080"/>
            <a:chOff x="4173480" y="2247840"/>
            <a:chExt cx="1657080" cy="2737080"/>
          </a:xfrm>
        </p:grpSpPr>
        <p:sp>
          <p:nvSpPr>
            <p:cNvPr id="242" name="Rectangle 27"/>
            <p:cNvSpPr/>
            <p:nvPr/>
          </p:nvSpPr>
          <p:spPr>
            <a:xfrm>
              <a:off x="4173480" y="4337280"/>
              <a:ext cx="16570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5470200" y="2247840"/>
              <a:ext cx="360360" cy="23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4" name="Group 29"/>
          <p:cNvGrpSpPr/>
          <p:nvPr/>
        </p:nvGrpSpPr>
        <p:grpSpPr>
          <a:xfrm>
            <a:off x="6615000" y="404640"/>
            <a:ext cx="2038320" cy="1181160"/>
            <a:chOff x="6615000" y="404640"/>
            <a:chExt cx="2038320" cy="1181160"/>
          </a:xfrm>
        </p:grpSpPr>
        <p:pic>
          <p:nvPicPr>
            <p:cNvPr id="245" name="Picture 30" descr="parabolic7"/>
            <p:cNvPicPr/>
            <p:nvPr/>
          </p:nvPicPr>
          <p:blipFill>
            <a:blip r:embed="rId4"/>
            <a:stretch/>
          </p:blipFill>
          <p:spPr>
            <a:xfrm>
              <a:off x="6615000" y="404640"/>
              <a:ext cx="20383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31"/>
            <p:cNvSpPr/>
            <p:nvPr/>
          </p:nvSpPr>
          <p:spPr>
            <a:xfrm>
              <a:off x="7427880" y="880920"/>
              <a:ext cx="115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6637320" y="2492280"/>
            <a:ext cx="2038320" cy="2923920"/>
            <a:chOff x="6637320" y="2492280"/>
            <a:chExt cx="2038320" cy="2923920"/>
          </a:xfrm>
        </p:grpSpPr>
        <p:pic>
          <p:nvPicPr>
            <p:cNvPr id="248" name="Picture 33" descr="그림1"/>
            <p:cNvPicPr/>
            <p:nvPr/>
          </p:nvPicPr>
          <p:blipFill>
            <a:blip r:embed="rId5"/>
            <a:stretch/>
          </p:blipFill>
          <p:spPr>
            <a:xfrm>
              <a:off x="6637320" y="2492280"/>
              <a:ext cx="203832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34"/>
            <p:cNvSpPr/>
            <p:nvPr/>
          </p:nvSpPr>
          <p:spPr>
            <a:xfrm>
              <a:off x="7211880" y="3184200"/>
              <a:ext cx="503280" cy="21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250" name="Picture 35" descr="parabolic7"/>
          <p:cNvPicPr/>
          <p:nvPr/>
        </p:nvPicPr>
        <p:blipFill>
          <a:blip r:embed="rId6"/>
          <a:stretch/>
        </p:blipFill>
        <p:spPr>
          <a:xfrm>
            <a:off x="6615000" y="419040"/>
            <a:ext cx="2038320" cy="11811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6"/>
          <p:cNvSpPr/>
          <p:nvPr/>
        </p:nvSpPr>
        <p:spPr>
          <a:xfrm>
            <a:off x="7427880" y="735120"/>
            <a:ext cx="432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Rectangle 37"/>
          <p:cNvSpPr/>
          <p:nvPr/>
        </p:nvSpPr>
        <p:spPr>
          <a:xfrm>
            <a:off x="7716960" y="95256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8077320" y="95256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54" name="Picture 39" descr="그림1"/>
          <p:cNvPicPr/>
          <p:nvPr/>
        </p:nvPicPr>
        <p:blipFill>
          <a:blip r:embed="rId7"/>
          <a:stretch/>
        </p:blipFill>
        <p:spPr>
          <a:xfrm>
            <a:off x="6637320" y="2463840"/>
            <a:ext cx="2038320" cy="2924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0"/>
          <p:cNvSpPr/>
          <p:nvPr/>
        </p:nvSpPr>
        <p:spPr>
          <a:xfrm>
            <a:off x="7140600" y="318456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7140600" y="3616200"/>
            <a:ext cx="5032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7140600" y="4481640"/>
            <a:ext cx="5032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제목 1"/>
          <p:cNvSpPr/>
          <p:nvPr/>
        </p:nvSpPr>
        <p:spPr>
          <a:xfrm>
            <a:off x="82692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수평 등속 운동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+ </a:t>
            </a: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수직 등가속 운동 </a:t>
            </a:r>
            <a:r>
              <a:rPr b="1" lang="en-US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= </a:t>
            </a:r>
            <a:r>
              <a:rPr b="1" lang="ko-KR" sz="2700" spc="-1" strike="noStrike">
                <a:solidFill>
                  <a:srgbClr val="ffffff"/>
                </a:solidFill>
                <a:latin typeface="Trebuchet MS"/>
                <a:ea typeface="맑은 고딕"/>
              </a:rPr>
              <a:t>포물선 운동</a:t>
            </a:r>
            <a:endParaRPr b="0" lang="en-US" sz="2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의 성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태양중심설을 수용할 때 발생하는 역학적 문제 해결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근대 역학의 기본인 관성과 운동의 상대성 개념 고안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운동에 대한 수학적 분석과 자유낙하 법칙의 확립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12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갈릴레오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《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대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》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둘째 날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1800" y="2707920"/>
            <a:ext cx="7953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의 논변은 어떻게 태양중심설에 도움이 될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가 사용하는 추론의 주된 특징은 무엇인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의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스러운 운동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은 아리스토텔레스의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‘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자연스러운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운동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’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과 동일하다고 할 수 있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는 관성 개념을 오늘날의 개념과 비교해보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살비아티는 태양중심설에 대한 아리스토텔레스의 반대 논변을 모두 해결하고 있는가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marL="558720" indent="-514440">
              <a:spcBef>
                <a:spcPts val="601"/>
              </a:spcBef>
              <a:buClr>
                <a:srgbClr val="ffc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갈릴레오의 논변으로 지구중심설을 물리칠 수 있을까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진공은 불가능하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 ∝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F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/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R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lvl="1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If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R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→0, then </a:t>
            </a:r>
            <a:r>
              <a:rPr b="0" i="1" lang="en-US" sz="2600" spc="-1" strike="noStrike">
                <a:solidFill>
                  <a:srgbClr val="ffc000"/>
                </a:solidFill>
                <a:latin typeface="Georgia"/>
              </a:rPr>
              <a:t>v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→∞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중세에도 지속된 투사체 문제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활을 떠난 화살은 어떻게 계속 움직이나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임페투스 이론 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(14c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처음의 운동원인은 임페투스를 물체에 전달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임페투스가 소진되고 나면 무거움</a:t>
            </a:r>
            <a:r>
              <a:rPr b="0" lang="en-US" sz="2200" spc="-1" strike="noStrike">
                <a:solidFill>
                  <a:srgbClr val="ffc000"/>
                </a:solidFill>
                <a:latin typeface="Georgia"/>
              </a:rPr>
              <a:t>(gravitas)</a:t>
            </a:r>
            <a:r>
              <a:rPr b="0" lang="ko-KR" sz="2200" spc="-1" strike="noStrike">
                <a:solidFill>
                  <a:srgbClr val="ffc000"/>
                </a:solidFill>
                <a:latin typeface="Georgia"/>
              </a:rPr>
              <a:t>에 의해 낙하</a:t>
            </a:r>
            <a:endParaRPr b="0" lang="en-US" sz="2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2" name="Picture 37" descr="projectile1(impetus)"/>
          <p:cNvPicPr/>
          <p:nvPr/>
        </p:nvPicPr>
        <p:blipFill>
          <a:blip r:embed="rId1"/>
          <a:stretch/>
        </p:blipFill>
        <p:spPr>
          <a:xfrm>
            <a:off x="1763640" y="260280"/>
            <a:ext cx="583092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속도란 무엇인가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순간속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평균속도 개념 구분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속운동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등가속운동 분석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평균 속도 정리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(Mean Speed Theorem)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5013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x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축은 시간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, y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축은 속도와 대응시킨 그래프 이용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7" name="Picture 2" descr="[OresmeMST.jpg]"/>
          <p:cNvPicPr/>
          <p:nvPr/>
        </p:nvPicPr>
        <p:blipFill>
          <a:blip r:embed="rId1"/>
          <a:srcRect l="15189" t="51285" r="21311" b="16125"/>
          <a:stretch/>
        </p:blipFill>
        <p:spPr>
          <a:xfrm>
            <a:off x="635040" y="549360"/>
            <a:ext cx="7897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6:41:42Z</dcterms:created>
  <dc:creator>zolaist</dc:creator>
  <dc:description/>
  <dc:language>en-US</dc:language>
  <cp:lastModifiedBy>zolaist</cp:lastModifiedBy>
  <dcterms:modified xsi:type="dcterms:W3CDTF">2011-03-30T15:24:26Z</dcterms:modified>
  <cp:revision>37</cp:revision>
  <dc:subject/>
  <dc:title>슬라이드 1</dc:title>
</cp:coreProperties>
</file>